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7.gif" ContentType="image/gif"/>
  <Override PartName="/ppt/media/image26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18.jpeg" ContentType="image/jpeg"/>
  <Override PartName="/ppt/media/image22.gif" ContentType="image/gif"/>
  <Override PartName="/ppt/media/image7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jpeg" ContentType="image/jpeg"/>
  <Override PartName="/ppt/media/image3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media/image5.gif" ContentType="image/gif"/>
  <Override PartName="/ppt/media/image38.jpeg" ContentType="image/jpeg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36D-9ED6-4131-B7F6-849BC443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36B-5024-42E7-924B-8563334B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685-34A4-42DD-9592-0FB14309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4F3-DCEC-49B4-887B-0474F16A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3650-CAB5-43AB-995A-7B7B2227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59AE-601E-4912-904F-0491CE94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8977-B21A-4566-B2B3-0E7AB879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FA1B-98F9-426C-89CD-26ACAE85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C942-742A-43D5-8071-F0AA78F0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9840-5C42-4596-A59C-DE579426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F1F5-411D-4BBB-AAF8-722F3C09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493-9674-4A22-B409-4EED82DE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3B3A-596A-4D0E-9841-333C432C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BDD2-0108-48AF-9A20-24C0DFE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B314-6028-4023-A589-F29AD02C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CB12-7ED1-4798-82CC-5DC2CAD5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7855-692A-4706-A3B9-B44D0985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ED43-B184-41F2-BB07-405F4320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B03A-44CF-4E58-B63F-15AB0E17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444E-385D-4C2E-B19F-C9BA2A22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60B8-564B-4113-AA23-E631C650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6BD1F-CD2B-43E9-9B8D-0B2E61F4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2BF-1E54-4B1F-8312-2A09D855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7371-2CC5-426A-A0FE-5855EB0F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BC35-5E36-41AD-AAD7-12C84927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7422-C988-4F8A-8E7B-6A58008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EBB9-6051-4F94-8FA9-4A3A5F82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6FC1-4190-4C98-840E-D7D267DD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93B15-0E5C-47EF-9353-D0F56B4D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1472-BFC1-4723-A9A1-302A3F88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DB4D-2703-48C1-9F77-2465AA44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87DB-AC1A-4EE8-8A98-11D5C28E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1263-1111-4D9E-9297-34510515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17F-5D50-4FC7-9CD5-003712E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C791-1869-4C47-B6D5-602200FF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5D77-345C-4A85-8BC8-346B39EB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36685-E7D7-4BAC-B868-F81CCF2F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4C99A-F459-4C1F-B2AF-F5277B41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91D97-1241-4512-9E56-A017EE4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05D5-AF5F-4B74-AF6F-085E16C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6466-29AC-47C4-B004-E645C036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2134-A4C1-4F6C-8BDC-29F22593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6992A-AFC1-4537-92E1-31D89AC2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3B160-2B71-4C1D-BBAC-F56D9429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467-584B-4535-B7F6-92241B01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BF54-1F01-42FF-B9A2-0C8D33AD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892A-E6F4-4984-B892-AD2C9A5E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7198-10D6-489C-B05C-470F3EB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F72DF-313D-44D2-8E53-6EF5A4D1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503AB-A7BA-46CB-94F0-71428120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5EE88-38BB-4D2F-B528-2BAE729B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2CB0-0C64-4BD7-93B0-48FEAB41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F06B2-8B22-4344-BC63-DB246EB4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2B63B-0ADB-4ABE-BA5D-FB9BAFEE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9CE0A-A6A0-4DB1-8E15-5A4E9A81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F2D-0350-4323-9337-89AB627D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7E7E-6C0C-4FB9-99E0-E39F47A2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C97-E885-460A-92B4-0654BCF9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830-A7DF-4DA0-9FE1-BEC83E95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2F3-B7AD-4205-AB76-6B4459A7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4F43-753E-4FF6-9C28-11BB545AFE7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A8E4-8F21-4B91-B01C-183C6116C9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8F48-B3F8-4AE1-B64F-F3C64B1A42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B16-32F6-4700-88C1-215B66F933C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AEDA-50E0-48DF-9BDA-4978EA3050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2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c-kapital.ru/images/variant_photos/1396_zimniysad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9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кологическая тропинка в помещении «Кто ходит в гости по утрам, тот поступает мудр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257440" y="3047760"/>
            <a:ext cx="33274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полнили студ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636 г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абрук А.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Лютоева Л.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рхипова Г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4" descr="imagesропапа"/>
          <p:cNvPicPr/>
          <p:nvPr/>
        </p:nvPicPr>
        <p:blipFill>
          <a:blip r:embed="rId2"/>
          <a:stretch/>
        </p:blipFill>
        <p:spPr>
          <a:xfrm>
            <a:off x="1600200" y="2666880"/>
            <a:ext cx="1887480" cy="32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%D0%9F%D0%BB%D0%B0%D0%BD%D0%B5%D1%82%D0%B0%D1%80%D0%B8%D0%B9"/>
          <p:cNvPicPr/>
          <p:nvPr/>
        </p:nvPicPr>
        <p:blipFill>
          <a:blip r:embed="rId1"/>
          <a:stretch/>
        </p:blipFill>
        <p:spPr>
          <a:xfrm>
            <a:off x="2133720" y="228600"/>
            <a:ext cx="67816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41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онта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t80550"/>
          <p:cNvPicPr/>
          <p:nvPr/>
        </p:nvPicPr>
        <p:blipFill>
          <a:blip r:embed="rId1"/>
          <a:stretch/>
        </p:blipFill>
        <p:spPr>
          <a:xfrm>
            <a:off x="3657600" y="1600200"/>
            <a:ext cx="3621240" cy="3657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149211163"/>
          <p:cNvPicPr/>
          <p:nvPr/>
        </p:nvPicPr>
        <p:blipFill>
          <a:blip r:embed="rId2"/>
          <a:stretch/>
        </p:blipFill>
        <p:spPr>
          <a:xfrm>
            <a:off x="7543800" y="5029200"/>
            <a:ext cx="125244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04960" y="80496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Коридоры, холлы, лестниц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холлах и коридорах могут быть размещены  тематические выставки фотографий (дети с родителями на природе ...) или детских рисунков, букеты сухих цветов, панно, фотообо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ридоре уголки с растениями и фонтан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гменты ландшафтов с водой: фотообои водопада+фонтан+ отдельные игрушки – животные, связанные с водой. Уголок Арктики – с льдинами из пенопласта и животными(игрушками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холлах угловые многоярусные подиумы, где выставляются детские подел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5" name="Picture 4" descr="a220"/>
          <p:cNvPicPr/>
          <p:nvPr/>
        </p:nvPicPr>
        <p:blipFill>
          <a:blip r:embed="rId2"/>
          <a:stretch/>
        </p:blipFill>
        <p:spPr>
          <a:xfrm>
            <a:off x="7296120" y="228600"/>
            <a:ext cx="1847880" cy="174960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" descr="images (14).jpg"/>
          <p:cNvPicPr/>
          <p:nvPr/>
        </p:nvPicPr>
        <p:blipFill>
          <a:blip r:embed="rId3"/>
          <a:stretch/>
        </p:blipFill>
        <p:spPr>
          <a:xfrm>
            <a:off x="7086600" y="4792680"/>
            <a:ext cx="169560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78" name="Picture 2" descr="G:\Экология\Лестнич. педагогика\File0713.tif"/>
          <p:cNvPicPr/>
          <p:nvPr/>
        </p:nvPicPr>
        <p:blipFill>
          <a:blip r:embed="rId1"/>
          <a:stretch/>
        </p:blipFill>
        <p:spPr>
          <a:xfrm>
            <a:off x="2133720" y="152280"/>
            <a:ext cx="670536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10000" y="810360"/>
            <a:ext cx="7828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кспериментальный угол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специальное помещение, в котором дети проводят исслед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оратория может быть организована 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ьном помещен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часть помещен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-лаборатория в группе и до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на участк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на занятиях превращаются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ченых», изучающих различные природные объекты, взаимосвязи в природ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евают белые халаты и получают опознавательные знач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4" descr="a139"/>
          <p:cNvPicPr/>
          <p:nvPr/>
        </p:nvPicPr>
        <p:blipFill>
          <a:blip r:embed="rId1"/>
          <a:stretch/>
        </p:blipFill>
        <p:spPr>
          <a:xfrm>
            <a:off x="7408800" y="2971800"/>
            <a:ext cx="13161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872000" y="804960"/>
            <a:ext cx="67716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ини-огород на окн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часть пространства на окн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специально устроенном дополнительном освещении лампой дневного света на окне можно круглый год выращивать экологически чисты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леные культуры (укроп, петрушку, лук, чеснок, салат)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акже проращивать овёс и другую зелень для животн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ять выгонку цветущих луковичных растений (крокусы, нарциссы, тюльпаны и д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4" name="Рисунок 5" descr="images (13).jpg"/>
          <p:cNvPicPr/>
          <p:nvPr/>
        </p:nvPicPr>
        <p:blipFill>
          <a:blip r:embed="rId1"/>
          <a:stretch/>
        </p:blipFill>
        <p:spPr>
          <a:xfrm>
            <a:off x="7010280" y="457200"/>
            <a:ext cx="17719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567160" y="890640"/>
            <a:ext cx="599004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приро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это место, где содержатся комнатные растения и некоторые животные,  организуется систематический труд и наблюдения детей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сположить можно в групповой комнате или раздевальном помещении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лесообразно иметь в каждой возрастной группе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инимальные состав уголка природы: комнатные растения и аквариум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Рисунок 5" descr="images (2).jpg"/>
          <p:cNvPicPr/>
          <p:nvPr/>
        </p:nvPicPr>
        <p:blipFill>
          <a:blip r:embed="rId1"/>
          <a:stretch/>
        </p:blipFill>
        <p:spPr>
          <a:xfrm>
            <a:off x="7467480" y="4952880"/>
            <a:ext cx="11145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196440" y="834120"/>
            <a:ext cx="5418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Мини-муз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колаева С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то специальное помещение в котором собраны педагогами, родителями и детьми разные интересные вещ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ема: «Лес и его значение в жизни человек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ыжова Н.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то специальное помещение (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жет быть часть группового помещения, холла, спальни, раздевального помещения, коридора, изостудии, экологической комнаты)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оторое посвящено определенному предмету, объекту природы или явлен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0" name="Picture 4" descr="images (12)"/>
          <p:cNvPicPr/>
          <p:nvPr/>
        </p:nvPicPr>
        <p:blipFill>
          <a:blip r:embed="rId2"/>
          <a:stretch/>
        </p:blipFill>
        <p:spPr>
          <a:xfrm>
            <a:off x="7010280" y="457200"/>
            <a:ext cx="14875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2" name="Picture 14" descr=""/>
          <p:cNvPicPr/>
          <p:nvPr/>
        </p:nvPicPr>
        <p:blipFill>
          <a:blip r:embed="rId1"/>
          <a:stretch/>
        </p:blipFill>
        <p:spPr>
          <a:xfrm>
            <a:off x="2133720" y="0"/>
            <a:ext cx="6858000" cy="68580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272760" y="8341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Фитоба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то небольшое помещение , где детям после процедур или занятий в бассейне предлагается набор витаминных чаев, настоев из трав и пл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стенах фитобара </a:t>
            </a:r>
            <a:r>
              <a:rPr b="1" lang="ru-RU" sz="1800" spc="-1" strike="noStrike">
                <a:solidFill>
                  <a:srgbClr val="00449e"/>
                </a:solidFill>
                <a:latin typeface="Arial"/>
              </a:rPr>
              <a:t>вывешиваются </a:t>
            </a:r>
            <a:r>
              <a:rPr b="1" lang="ru-RU" sz="1800" spc="-1" strike="noStrike" u="sng">
                <a:solidFill>
                  <a:srgbClr val="00449e"/>
                </a:solidFill>
                <a:uFillTx/>
                <a:latin typeface="Arial"/>
              </a:rPr>
              <a:t>фотографии,</a:t>
            </a:r>
            <a:r>
              <a:rPr b="1" lang="ru-RU" sz="1800" spc="-1" strike="noStrike">
                <a:solidFill>
                  <a:srgbClr val="00449e"/>
                </a:solidFill>
                <a:latin typeface="Arial"/>
              </a:rPr>
              <a:t> наборы художественно выполненных рисунков целебных растений, которые </a:t>
            </a:r>
            <a:r>
              <a:rPr b="1" lang="ru-RU" sz="1800" spc="-1" strike="noStrike" u="sng">
                <a:solidFill>
                  <a:srgbClr val="00449e"/>
                </a:solidFill>
                <a:uFillTx/>
                <a:latin typeface="Arial"/>
              </a:rPr>
              <a:t>меняются в зависимости от составов лекарственных сбор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о время процедур воспитатель обращает внимание детей н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нешний вид растений, их названия, особенности растений, места их произрастания, правила сбора и охраны, рассказывает посвященные им легенд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5" name="Picture 4" descr="images (11)"/>
          <p:cNvPicPr/>
          <p:nvPr/>
        </p:nvPicPr>
        <p:blipFill>
          <a:blip r:embed="rId2"/>
          <a:stretch/>
        </p:blipFill>
        <p:spPr>
          <a:xfrm>
            <a:off x="7423200" y="304920"/>
            <a:ext cx="126360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029320" y="962280"/>
            <a:ext cx="6761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ологическая тропинка в помеще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это своеобразный маршрут, по которому дети идут с определенной целью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Она состоит из ряда видовых точек (объектов)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Уголок природы в групп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Экспериментальный угол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Зимний са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ини-музе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ини-планетарий (в коридоре, под лестничной клеткой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Фитоба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Фонтан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алереи с фотографиями и картинами о природ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ини-орогод на окн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Каминный угол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4" descr="149211163"/>
          <p:cNvPicPr/>
          <p:nvPr/>
        </p:nvPicPr>
        <p:blipFill>
          <a:blip r:embed="rId1"/>
          <a:stretch/>
        </p:blipFill>
        <p:spPr>
          <a:xfrm>
            <a:off x="7391520" y="4724280"/>
            <a:ext cx="16113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7" name="Picture 6" descr="http://www.kam-tur.ru/userfiles/Image/photo/picture2876.jpg"/>
          <p:cNvPicPr/>
          <p:nvPr/>
        </p:nvPicPr>
        <p:blipFill>
          <a:blip r:embed="rId1"/>
          <a:srcRect l="0" t="0" r="0" b="23441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мотри на нашей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IKI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аничке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тство»: программа воспитания и обучения дошколь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по разделу «Растительный мир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ший дошкольный возра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ые задачи по возрастным группам, в соответствии со своим проек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0" name="Picture 4" descr="5"/>
          <p:cNvPicPr/>
          <p:nvPr/>
        </p:nvPicPr>
        <p:blipFill>
          <a:blip r:embed="rId1"/>
          <a:stretch/>
        </p:blipFill>
        <p:spPr>
          <a:xfrm>
            <a:off x="7010280" y="4952880"/>
            <a:ext cx="1552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ловицы и поговор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"Чтобы кактусов набрать, надо рано встать"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Для волнистых попугаев можно применить пословицу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л, да удал!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Не накормит земля, накормит вода. (Рыб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Его бьют сапогом, его бьют колесом, и ударь кирпичом, ему все нипочем» (подорожник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Звезда - судьба, счастье. (Звезд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Пей чай – удовольствие получа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чтобы добыть чашку риса, надо пролить чашку пот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Против жара и камень треснет.(камен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Возвращай земле долг – будет тол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.Не гляди в небо – там нет хлеба, а к земле ниже – к хлебу бли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.Чай крепче, если он с добрым другом разделен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.Лес рубят - щепки летя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.Чем дальше в лес, тем больше д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4.Как из муки не испечешь хлеба, так без зверобоя не вылечишь человек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3" name="Picture 4" descr="images (15)"/>
          <p:cNvPicPr/>
          <p:nvPr/>
        </p:nvPicPr>
        <p:blipFill>
          <a:blip r:embed="rId1"/>
          <a:stretch/>
        </p:blipFill>
        <p:spPr>
          <a:xfrm>
            <a:off x="7620120" y="304920"/>
            <a:ext cx="1218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943800" y="820080"/>
            <a:ext cx="46846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7720" y="2286000"/>
            <a:ext cx="29718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1.На окне цветок колючий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Смотрит за околицу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Вы его не троньте лучше: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чень больно колется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(Кактус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2. Птичка в клеточке сидит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И с тобою говорит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Ей секрет не доверяй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Разболтает ..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(Ответ:Попугай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3. Не хожу и не летаю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А попробуй догони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Я бываю золотая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Ну-ка, в сказку загляни!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твет: Золотая рыбка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4. Комочек пуха, длинное ухо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Прыгает ловко, любит морковку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твет: Кролик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5. Прежде чем его мы съели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Все наплакаться успели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твет: Лук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6324480" y="2362320"/>
            <a:ext cx="2210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На окошке - пруд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нем рыбешки живу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Ответ:Аквариум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Желтый цитрусовый пл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транах солнечных растё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 на вкус кислейший он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зовут его 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ответ: лим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 него большой живот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совсем не бегемо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Хобот-нос приподнял он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, однако же, не слон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 пыхтит он через нос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ите как паровоз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Чайник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Не огонь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жж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Крапив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7" name="Picture 5" descr="images"/>
          <p:cNvPicPr/>
          <p:nvPr/>
        </p:nvPicPr>
        <p:blipFill>
          <a:blip r:embed="rId1"/>
          <a:stretch/>
        </p:blipFill>
        <p:spPr>
          <a:xfrm>
            <a:off x="3581280" y="3505320"/>
            <a:ext cx="21528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891440" y="8244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2971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. Шар воздушный золото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д рекой остановился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ачался над водой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потом за лесом скрыл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Солнце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. Сежей зеленью оде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рки, улицы, поля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море солнечного све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гружается..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земля 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. Суп, салат, пюре, котле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дают всегда в … (Тарелке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на чай и простоквашу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дставляй, дружочек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Чашку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. Нам он - как хороший друг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Лечит ранки ног и рук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ответ: подорожник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скры небо прожигают, а до нас не долетаю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Звезды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5029200" y="3581280"/>
            <a:ext cx="3962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. Вот зелёная кокетк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ельдереева соседка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троносая старушк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ем мы тебя, 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петруш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. Там морковка, там капуста, там клубничкой пахнет вкусн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 козла туда, друзья, нам никак пускать нельз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огород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. И в море не купаются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 нет на них щетинки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 все же называютс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ни - морские 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Свинк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5410080" y="53352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. Выше леса, выше гор расстилается ков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н раскинут над тобой и надо мной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о он серый, то он синий, то он ярко-голубо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Небо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029200" y="2514600"/>
            <a:ext cx="3276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. В огороде хрупкий зонт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немногу вверх растёт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к зовут тебя? «Прокоп», -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омко скажет нам 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укроп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81280" y="880920"/>
            <a:ext cx="783864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Picture 4" descr="4"/>
          <p:cNvPicPr/>
          <p:nvPr/>
        </p:nvPicPr>
        <p:blipFill>
          <a:blip r:embed="rId2"/>
          <a:stretch/>
        </p:blipFill>
        <p:spPr>
          <a:xfrm>
            <a:off x="6934320" y="4724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1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ют для лечения ожогов, гнойных ран и фурункулов.Для снижения артериального давления применяют настойку.При зубной боли натирать десны соком подорожника. Также полоскать рот настоем этой травы, что способствует укреплению зуб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2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ролика маленькие ушки, он питается морковкой, капустой, травкой. Кролик живёт в клет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57920" y="795600"/>
            <a:ext cx="5495040" cy="4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лан-схема (1 этаж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Picture 5" descr="1 этаж"/>
          <p:cNvPicPr/>
          <p:nvPr/>
        </p:nvPicPr>
        <p:blipFill>
          <a:blip r:embed="rId1"/>
          <a:stretch/>
        </p:blipFill>
        <p:spPr>
          <a:xfrm>
            <a:off x="1676520" y="1143000"/>
            <a:ext cx="6933960" cy="530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3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ская свинка, конечно же, не имеет никакого отношения н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морю, ни к свиньям. Само название "свинка" появилось из-за строения головы зверьков. Эти животные имеют удлиненное тело, грубый шерстный покров, короткую шею, сравнительно короткие ноги. На передних лапках четыре, а на задних — три пальца, которые имеют большие копытообразные когти. У свинки нет хвоста. Морские свинки очень «разговорчивые». В спокойном состоянии голос морской свинки напоминает бульканье воды, в состояние испуга - визг. В целом звуки, издаваемые этим грызуном, очень похожи на хрюканье свиней, это еще одна причина столь странного названия. Вероятнее всего, изначально морская свинка и в Европе служила пищ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4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опугая всегда яркая окраска, есть клюв, он малень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5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-нет, днем они тоже светят, просто их не видно. В дневное время наше солнышко своими лучами освещает голубую атмосферу планеты, из-за чего космос скрывается как бы за шторкой. Ночью же эта завеса открывается, и мы видим все великолепие космоса — звезды, галактики, туманности, кометы и многие другие чудеса нашей Вселен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6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формления группы, а также они являются очистителями воздуха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7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ое освещение поможет обеспечить необходимое качество света и нормальную жизнедеятельность для рыб, так же свет необходим аквариумным растениям для фотосинтез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157920" y="719640"/>
            <a:ext cx="5495040" cy="4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лан-схема (2 этаж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Picture 4" descr="2 этаж"/>
          <p:cNvPicPr/>
          <p:nvPr/>
        </p:nvPicPr>
        <p:blipFill>
          <a:blip r:embed="rId1"/>
          <a:stretch/>
        </p:blipFill>
        <p:spPr>
          <a:xfrm>
            <a:off x="1828800" y="1371600"/>
            <a:ext cx="6400800" cy="5205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8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торой ложка, а если ложка есть в обоих, то которой удобне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аспорта природных объект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7" name="Рисунок 1" descr="Аспарагус"/>
          <p:cNvPicPr/>
          <p:nvPr/>
        </p:nvPicPr>
        <p:blipFill>
          <a:blip r:embed="rId1"/>
          <a:stretch/>
        </p:blipFill>
        <p:spPr>
          <a:xfrm>
            <a:off x="762120" y="2286000"/>
            <a:ext cx="2009520" cy="18352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5" descr="http://www.rastimir.ru/encyclopedia/pictures/achimenes.jpg"/>
          <p:cNvPicPr/>
          <p:nvPr/>
        </p:nvPicPr>
        <p:blipFill>
          <a:blip r:embed="rId2"/>
          <a:stretch/>
        </p:blipFill>
        <p:spPr>
          <a:xfrm>
            <a:off x="2819520" y="2286000"/>
            <a:ext cx="1600200" cy="18352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6" descr="http://flower.onego.ru/lukov/enc_0175.jpg"/>
          <p:cNvPicPr/>
          <p:nvPr/>
        </p:nvPicPr>
        <p:blipFill>
          <a:blip r:embed="rId3"/>
          <a:stretch/>
        </p:blipFill>
        <p:spPr>
          <a:xfrm>
            <a:off x="4495680" y="2286000"/>
            <a:ext cx="1371600" cy="18273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8" descr=""/>
          <p:cNvPicPr/>
          <p:nvPr/>
        </p:nvPicPr>
        <p:blipFill>
          <a:blip r:embed="rId4"/>
          <a:stretch/>
        </p:blipFill>
        <p:spPr>
          <a:xfrm>
            <a:off x="6019920" y="2286000"/>
            <a:ext cx="1888920" cy="18288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9" descr=" (289x307, 45Kb)"/>
          <p:cNvPicPr/>
          <p:nvPr/>
        </p:nvPicPr>
        <p:blipFill>
          <a:blip r:embed="rId5"/>
          <a:stretch/>
        </p:blipFill>
        <p:spPr>
          <a:xfrm>
            <a:off x="762120" y="4343400"/>
            <a:ext cx="1981080" cy="19652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0" descr="Гибискус китайский"/>
          <p:cNvPicPr/>
          <p:nvPr/>
        </p:nvPicPr>
        <p:blipFill>
          <a:blip r:embed="rId6"/>
          <a:stretch/>
        </p:blipFill>
        <p:spPr>
          <a:xfrm>
            <a:off x="2895480" y="43434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2" descr="Кливия"/>
          <p:cNvPicPr/>
          <p:nvPr/>
        </p:nvPicPr>
        <p:blipFill>
          <a:blip r:embed="rId7"/>
          <a:stretch/>
        </p:blipFill>
        <p:spPr>
          <a:xfrm>
            <a:off x="4648320" y="4343400"/>
            <a:ext cx="1904760" cy="19810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9" descr="http://www.sestrenka.ru/pics/a/limon.jpg"/>
          <p:cNvPicPr/>
          <p:nvPr/>
        </p:nvPicPr>
        <p:blipFill>
          <a:blip r:embed="rId8"/>
          <a:stretch/>
        </p:blipFill>
        <p:spPr>
          <a:xfrm>
            <a:off x="6629400" y="434340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272760" y="8341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ловар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везды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- небесное тело, в котором идут, шли или будут идти термоядерные реакции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лнце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- представляет собой массивный светящийся газовый (плазменный) шар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ланета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-  "блуждающая звезда" – огонёк, перемещающийся по небу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й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напиток, получаемый варкой, завариванием или настаиванием листа чайного куста, который предварительно подготавливается специальным образом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йник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 небольшой закрытый сосуд с носиком, крышкой  и ручкой для подогревания и кипячения воды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мена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- особая многоклеточная структура сложного строения, служащая для размножения и расселения семенных растений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мень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природный твёрдый минерал, скальная масса, горная порода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стение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живой организм, не относящийся к классу животных или грибов, использующий для обмена веществ световую энергию Солнца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пугай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семейство птиц отряда попугаеобразных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ыба 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надкласс водных животных, обширная группа позвоночных, для которых характерно жаберное дыхание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ролик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бщее название нескольких родов млекопитающих из семейства зайцев. 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бы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стеклянный сосуд с круглым или плоским дном, обычно с узким длинным горлышком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понаты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предмет, выставляемый для обозрения в музее или на выставке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периментальный уголок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помещение предназначенное для проведения экспериментов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онтан 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природное или искусственно вызванное явление, заключающееся в истечении жидкости под действием оказываемого на неё давления вверх или вбок из источника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ланетарий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научно-просветительное учреждение, в котором демонстрируется небесная сфера со звёздами, планетами и спутниками, кометами и метеорами, а также солнечные и лунные затмения, панорамы Луны, Марса, Венеры и климатических поясов земного шара. 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тобар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место, где вам предложат различные коктейли и продукты на основе травяных и плодово-ягодных сборов, свежевыжатые соки, а также специальное питание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нно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живописное произведение декоративного характера, обычно предназначенное для постоянного заполнения каких либо участков стены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ртина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- произведение живописи, обладающее законченным характером и самостоятельным художественным значением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оршок 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округлый сосуд для приготовления и хранения пищи, разведения цветов и иных хозяйственных нужд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7" name="Picture 4" descr="a132"/>
          <p:cNvPicPr/>
          <p:nvPr/>
        </p:nvPicPr>
        <p:blipFill>
          <a:blip r:embed="rId1"/>
          <a:stretch/>
        </p:blipFill>
        <p:spPr>
          <a:xfrm>
            <a:off x="7645320" y="304920"/>
            <a:ext cx="1346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272760" y="8341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нтонова С.  Цветочный серпантин // Обруч. – 2003 - № 4 с.18-21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укова В. Приметы и прогнозы // Обруч. – 2006 - № 1 с.24-25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енина Т. Полезные фитомодули // Обруч. – 2003 - № 3 – с.32-34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енина Т.Н. Конспекты занятий по ознакомлению дошкольников с   природными объектами. М.: Педагогическое Общество России, 2006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ванова А.И. Методика организации экологических наблюдений и экспериментов в детском саду: пособие для работников дошкольных учреждений. – М.: ТЦ Сфера, 2007. – 56 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ванова А.И. Экологические наблюдения и эксперименты в детском саду (мир растений). - М.: ТЦ Сфера, 2004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Лагутенко О. И. Привлечение птиц и наблюдение за ними с детьми // Дошкольная педагогика. - 2003  - №   2 с. 24-26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ленникова О.М., Филиппенко А.А. Экологические проекты в детском саду. – Волгоград: Учитель, 2009. – 232 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иколаева С.Н. Методика экологического воспитания в детском саду: Работа с детьми сред. и ст. групп дет. сада: Кн. для воспитателей дет. сада. – 2-е изд.- М.: Просвещение, 2000. – 208 с.: и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иколаева С.Н. О чём говорят растения // Ребёнок в детском саду. – 2002. -№ 3. –с.88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иколаева С.Н. Создаем условия для экологического воспитания детей: методические рекомендации для дошкольных учреждений. - М., 1993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 Дорога, длиною в ДОУ // Обруч. – 2006 - № 3 с. 28-30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 Попробуйте огурчики // Обруч. - 2002 - №5 с. 33-35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А. Экологизация предметно-развивающей среды // Дошкольно воспитание. – 1999. - № 7.- с.16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А. Экологическое образование в детском саду. – М., 2001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А. Я и Природа. Наш дом - природа. - М., 1996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0" name="Picture 4" descr="4"/>
          <p:cNvPicPr/>
          <p:nvPr/>
        </p:nvPicPr>
        <p:blipFill>
          <a:blip r:embed="rId1"/>
          <a:stretch/>
        </p:blipFill>
        <p:spPr>
          <a:xfrm>
            <a:off x="7238880" y="228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48360" y="2590920"/>
            <a:ext cx="60948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о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images (4)"/>
          <p:cNvPicPr/>
          <p:nvPr/>
        </p:nvPicPr>
        <p:blipFill>
          <a:blip r:embed="rId1"/>
          <a:stretch/>
        </p:blipFill>
        <p:spPr>
          <a:xfrm>
            <a:off x="5715000" y="1828800"/>
            <a:ext cx="1363680" cy="1143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images (6)"/>
          <p:cNvPicPr/>
          <p:nvPr/>
        </p:nvPicPr>
        <p:blipFill>
          <a:blip r:embed="rId2"/>
          <a:stretch/>
        </p:blipFill>
        <p:spPr>
          <a:xfrm>
            <a:off x="5897520" y="3048120"/>
            <a:ext cx="922320" cy="1323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images (10)"/>
          <p:cNvPicPr/>
          <p:nvPr/>
        </p:nvPicPr>
        <p:blipFill>
          <a:blip r:embed="rId3"/>
          <a:stretch/>
        </p:blipFill>
        <p:spPr>
          <a:xfrm>
            <a:off x="5867280" y="434340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images (14)"/>
          <p:cNvPicPr/>
          <p:nvPr/>
        </p:nvPicPr>
        <p:blipFill>
          <a:blip r:embed="rId4"/>
          <a:stretch/>
        </p:blipFill>
        <p:spPr>
          <a:xfrm>
            <a:off x="5791320" y="5410080"/>
            <a:ext cx="969840" cy="990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imagesропапа"/>
          <p:cNvPicPr/>
          <p:nvPr/>
        </p:nvPicPr>
        <p:blipFill>
          <a:blip r:embed="rId5"/>
          <a:stretch/>
        </p:blipFill>
        <p:spPr>
          <a:xfrm>
            <a:off x="5967360" y="304920"/>
            <a:ext cx="1041480" cy="16002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304920"/>
          <a:ext cx="7010280" cy="6095880"/>
        </p:xfrm>
        <a:graphic>
          <a:graphicData uri="http://schemas.openxmlformats.org/drawingml/2006/table">
            <a:tbl>
              <a:tblPr/>
              <a:tblGrid>
                <a:gridCol w="4664160"/>
                <a:gridCol w="2346120"/>
              </a:tblGrid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ини-Пух – хозяин волшебной тропинки, который знакомит детей с точками экологической тропинки и правилами поведения в гостях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Флора» - хозяйка зимнего сада, знакомит детей с растениями и животным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ЛОшка – живет в планетарии и знакомит детей с планетами, звездами и т.д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лаундер –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житель подводного царства фонтана , любитель беседовать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слик Иа – делает выставки картин о природе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05920" y="2438280"/>
            <a:ext cx="304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о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images (8)"/>
          <p:cNvPicPr/>
          <p:nvPr/>
        </p:nvPicPr>
        <p:blipFill>
          <a:blip r:embed="rId1"/>
          <a:stretch/>
        </p:blipFill>
        <p:spPr>
          <a:xfrm>
            <a:off x="6172200" y="304920"/>
            <a:ext cx="89208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images (12)"/>
          <p:cNvPicPr/>
          <p:nvPr/>
        </p:nvPicPr>
        <p:blipFill>
          <a:blip r:embed="rId2"/>
          <a:stretch/>
        </p:blipFill>
        <p:spPr>
          <a:xfrm>
            <a:off x="5943600" y="1905120"/>
            <a:ext cx="1158840" cy="1447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images (13)"/>
          <p:cNvPicPr/>
          <p:nvPr/>
        </p:nvPicPr>
        <p:blipFill>
          <a:blip r:embed="rId3"/>
          <a:stretch/>
        </p:blipFill>
        <p:spPr>
          <a:xfrm>
            <a:off x="6172200" y="3368520"/>
            <a:ext cx="1371600" cy="1019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images (2)"/>
          <p:cNvPicPr/>
          <p:nvPr/>
        </p:nvPicPr>
        <p:blipFill>
          <a:blip r:embed="rId4"/>
          <a:stretch/>
        </p:blipFill>
        <p:spPr>
          <a:xfrm>
            <a:off x="6342120" y="4419720"/>
            <a:ext cx="79200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images (11)"/>
          <p:cNvPicPr/>
          <p:nvPr/>
        </p:nvPicPr>
        <p:blipFill>
          <a:blip r:embed="rId5"/>
          <a:stretch/>
        </p:blipFill>
        <p:spPr>
          <a:xfrm>
            <a:off x="6289560" y="5486400"/>
            <a:ext cx="720720" cy="11145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0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80880" y="380880"/>
          <a:ext cx="7467840" cy="6172200"/>
        </p:xfrm>
        <a:graphic>
          <a:graphicData uri="http://schemas.openxmlformats.org/drawingml/2006/table">
            <a:tbl>
              <a:tblPr/>
              <a:tblGrid>
                <a:gridCol w="4864320"/>
                <a:gridCol w="2603520"/>
              </a:tblGrid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еный Эколотроп – хозяин экпериментального уголка, знакомит детей с оборудованием и проводит опыты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ятачок – хозяин мини-музея, любитель собирать разные ширмы и предметы по теме лес, природный материал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ролик – хозяин мини-огорода. Выращивает зелень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Боровичок – хозяин уголка природы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игра – хозяин фитобара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57920" y="795600"/>
            <a:ext cx="5495040" cy="4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Зимний сад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то специальное большое и хорошо освещенное помещение (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рез большие окна, стеклянную крышу или искусственное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озле южных солнечных окон устраива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голок пустыни, </a:t>
            </a:r>
            <a:r>
              <a:rPr b="1" lang="ru-RU" sz="1800" spc="-1" strike="noStrike">
                <a:solidFill>
                  <a:srgbClr val="002e69"/>
                </a:solidFill>
                <a:latin typeface="Arial"/>
              </a:rPr>
              <a:t>создав композицию из суккулент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e69"/>
                </a:solidFill>
                <a:latin typeface="Arial"/>
              </a:rPr>
              <a:t>В противоположном углу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опическая композиция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з влаголюбивых растен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ция плодовых деревьев: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оративный гранат, инжир, комнатный лимон, банановая пальма, кофейное дерево, чайный куст, лавр и д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ссейн с фонтаном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, где плавает золотая рыб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ля зимнего сада подходит каменное или деревянное оформление (скульптуры, скамеечки, дорожки и пр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4" descr="388620577"/>
          <p:cNvPicPr/>
          <p:nvPr/>
        </p:nvPicPr>
        <p:blipFill>
          <a:blip r:embed="rId2"/>
          <a:stretch/>
        </p:blipFill>
        <p:spPr>
          <a:xfrm>
            <a:off x="7467480" y="5105520"/>
            <a:ext cx="1447920" cy="15332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images (4).jpg"/>
          <p:cNvPicPr/>
          <p:nvPr/>
        </p:nvPicPr>
        <p:blipFill>
          <a:blip r:embed="rId3"/>
          <a:stretch/>
        </p:blipFill>
        <p:spPr>
          <a:xfrm>
            <a:off x="6019920" y="228600"/>
            <a:ext cx="147636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61" name="Picture 6" descr="Картинка 45 из 1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2280"/>
            <a:ext cx="67820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71880" y="861840"/>
            <a:ext cx="5590440" cy="3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Мини - планетар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голубая комната, на потолке которой размещен макет солнечной системы с планетами и их орбитами, звездным неб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Формирование представлений у старших дошкольников о Вселенной, о планетах Солнечной системы и зодиакальных созвездия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Материал: телескоп, глобус, лампы, лупы, карты, макеты и схе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«Звездное небо» - штора из плотной черной ткани с отверстиями в форме звез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Picture 4" descr="238719788"/>
          <p:cNvPicPr/>
          <p:nvPr/>
        </p:nvPicPr>
        <p:blipFill>
          <a:blip r:embed="rId2"/>
          <a:stretch/>
        </p:blipFill>
        <p:spPr>
          <a:xfrm>
            <a:off x="7696080" y="380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6" descr="images (6).jpg"/>
          <p:cNvPicPr/>
          <p:nvPr/>
        </p:nvPicPr>
        <p:blipFill>
          <a:blip r:embed="rId3"/>
          <a:stretch/>
        </p:blipFill>
        <p:spPr>
          <a:xfrm>
            <a:off x="7924680" y="2895480"/>
            <a:ext cx="1028880" cy="14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6-07T12:16:3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